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30F2B-D33C-420F-94B6-09E8E837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C813-F32E-4122-8ABB-6EF0BFE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AB509-677E-4874-84BA-68995AFE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E674-033D-4277-9FB4-5B738D6A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D76E-9E5D-4642-965B-5BCBF6BD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7F61-FC0C-4CDD-B2A8-2C5BDFF3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56A5-E2AD-4AEB-ABE8-AB440E25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A620-59D9-421A-A790-1040A9C3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4F86-00BA-4E57-8924-3BCE3A60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9B6-DF62-4600-88E2-087D47F1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1A25-5382-4133-B861-1A291D89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CAF1-3C24-4576-9F2E-66B110A4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DE16-AB7A-464C-BE34-C8C130F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65C6-0230-4BD1-9D2E-723E07C0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6119-8B81-43FA-8748-F3665373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8F60-3DFE-45A3-AA46-1DEE937A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866C-6ECB-4800-BE3F-FD8CF397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C73A-66BC-4EDA-8B71-D2D134FA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D320-E115-4BD5-A28B-BE8ADC5C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011F9-62BC-44F1-80B6-BA5913AB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F0BF-5927-486D-8528-42C1B24A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E5B5-AD51-44CB-9600-E1432F6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04419-273C-4E35-8C16-2278448C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D22FF-38CD-4EF3-AF4F-6D2E2D3B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26D9-D249-4CCF-8E68-3A689A8022A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9668"/>
                  </a:gs>
                  <a:gs pos="100000">
                    <a:srgbClr val="bfa67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b875d"/>
                  </a:gs>
                  <a:gs pos="100000">
                    <a:srgbClr val="bfa67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bfa6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a673"/>
                  </a:gs>
                  <a:gs pos="100000">
                    <a:srgbClr val="a791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bfa673"/>
                </a:gs>
                <a:gs pos="100000">
                  <a:srgbClr val="a18c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6737"/>
                </a:gs>
                <a:gs pos="100000">
                  <a:srgbClr val="bfa6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6e3a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6221-9625-4DB2-8F45-704F50438FB5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6e3a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0" spc="-1" strike="noStrike">
                <a:solidFill>
                  <a:srgbClr val="e6e3aa"/>
                </a:solidFill>
                <a:latin typeface="Garamond"/>
              </a:rPr>
              <a:t>Chapitre III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Entrer sur le ter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-27000"/>
          <a:ext cx="9144000" cy="70344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tatut de l’observate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À découve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cog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équation des constats à la réalité ordin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réhension intime des rôles sociau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ccès à des informations par ques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sibilité de prise de no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  <a:ea typeface="宋体"/>
                        </a:rPr>
                        <a:t>Accès à la variété des situations observables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tous cas incertitu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r maintien d’une extériorité mais apparition possible d’allié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is sous contrô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rfois soumission à accord (enregistrement audio) voire autocensu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  <a:ea typeface="宋体"/>
                        </a:rPr>
                        <a:t>Sous réserve d’acceptation par les enquêtés</a:t>
                      </a: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is risque de centrisme, d’adoption du point de vue des acteu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is avec le temps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uf si le rôle prévoit l’utilisation de l’écri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  <a:ea typeface="宋体"/>
                        </a:rPr>
                        <a:t>     </a:t>
                      </a:r>
                      <a:r>
                        <a:rPr b="1" i="1" lang="fr-BE" sz="1800" spc="-1" strike="noStrike">
                          <a:solidFill>
                            <a:srgbClr val="ffffff"/>
                          </a:solidFill>
                          <a:latin typeface="Garamond"/>
                          <a:ea typeface="宋体"/>
                        </a:rPr>
                        <a:t>Sans réserve autre que celles rencontrées par un acteur ordinaire de la situation</a:t>
                      </a: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Garamond"/>
                          <a:ea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Temporalité de l’observation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Temps long pour se familiariser et diversit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Dépend de l’objet et…du ter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Savoir perdre son tem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Autres facteurs influençant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Observation participante ou non, à découvert ou n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Nombre de lieux d’investig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Méthodologie employé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Comment observe-t-on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BE" sz="3200" spc="-1" strike="noStrike" u="sng">
                <a:solidFill>
                  <a:srgbClr val="ffffff"/>
                </a:solidFill>
                <a:uFillTx/>
                <a:latin typeface="Garamond"/>
              </a:rPr>
              <a:t>Observer c’est mettre en œuvre 3 compétences :</a:t>
            </a: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Percevo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Mémoris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No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5600" y="306360"/>
            <a:ext cx="7931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e6e3aa"/>
                </a:solidFill>
                <a:latin typeface="Garamond"/>
              </a:rPr>
              <a:t>Comparatif Phases observation/interview</a:t>
            </a:r>
            <a:endParaRPr b="1" lang="en-US" sz="2800" spc="-1" strike="noStrike">
              <a:solidFill>
                <a:srgbClr val="e6e3aa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907920"/>
          <a:ext cx="8229600" cy="5016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bserv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ervie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ère Phase : négocier sa pla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ouver une place d’observation (se créer des allié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égocier l’entretien (mettre en place une collabora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e Phase : in si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ervenir comme participant ou comme enquêteur. Mémori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duire l’entretien (intervenir comme enquêteur). Enregistrer et obser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e Phase : écrire et analy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ter l’observation. S’appuyer sur des documents recueillis et légendé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ranscrire l’entretien, le décortiquer, le mettre en rapport avec des élé. extérieurs à l’entreti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e Phase : contrôl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erviewer les participants. Réitérer l’observation. Comp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voir la personne. Compléter les infos manquan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3 catégories d’objets observable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Les cérémonies, les événements collectifs, les rites, et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Les interactions personnelles ou anony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Les lieux et objets en dehors de tout événement et interac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En général, observation totale : événements, interaction, lieu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Les cérémonie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Avant : préparer la cérémonie. Négocier sa place. Réfléch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In situ : prendre note/mémori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Ramasser des trac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Mémoriser = remarquer. Pas de rupture épistémologique dans l’observation in situ. Soyez étonné. Mais restez neut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Garamond"/>
              </a:rPr>
              <a:t>Mémoriser = opérer un marquage spatio-temporell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Après : rentrez chez vous et notez tou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B. Les interaction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+ Compliqu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Le + souvent ni préparées, ni annoncé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Interaction anonyme </a:t>
            </a:r>
            <a:r>
              <a:rPr b="0" lang="fr-B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 à identifie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Position d’observateur extérieur : problématiqu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Même méthod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Préparer quand c’est pos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In situ : prendre notre et/ou mémori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Après : retranscrire dans carnet de bo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e6e3aa"/>
                </a:solidFill>
                <a:latin typeface="Garamond"/>
              </a:rPr>
              <a:t>Lieux, objets hors interaction et cérémonie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Soit vous ne verrez rien, soit vous ferez de la littératur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A priori. Ethnocentrism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Solution 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Laissez libre cours à vos clichés. Notez les. Confrontez votre perception au lieu ou objet ou personne observé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Inversion de sentiment.</a:t>
            </a:r>
            <a:r>
              <a:rPr b="0" lang="fr-BE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Conclusions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Question d’équilibre (grille de lectu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Ressentez vos sentiments, sensations, dans l’observation. Ne les exprimez pas forcé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Apprenez à mémoriser et noter avec rigueu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Observer dans les deux sens du ter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Devenir enquêteur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Jouer un nouveau rôle so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Capacité d’adaptation. Jouer les camélé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Evitez le travail en pointillés si poss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S’installer : régler les problèmes de logistique, de déplaceme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Se prés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Prendre 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Règles de déontologie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Ne pas enregistrer un entretien à l’insu de votre interlocut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Demander l’autorisation pour prendre des phot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Tenir à sa disposition photos, cassettes, transcriptions qui le concern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Séparez milieu d’enquête et milieu d’analy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Anonymisez vos enquêtés en cas de public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Un outil : le journal de bord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Outil scientifique et non littér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Descrip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Conseil d’utilis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Utilité du journal de bor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0" spc="-1" strike="noStrike">
                <a:solidFill>
                  <a:srgbClr val="e6e3aa"/>
                </a:solidFill>
                <a:latin typeface="Garamond"/>
              </a:rPr>
              <a:t>Chapitre IV</a:t>
            </a:r>
            <a:endParaRPr b="1" lang="en-US" sz="6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L’observation de ter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Pourquoi l’observation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Etudier des comportements qui ne sont pas ou pas bien verbalisés, ou alors trop et pour lesquelles on n’aura que des réponses conven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Etudier des pratiques non officielles, occultes ou visibles mais insuffisamment légiti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Observation impossible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Limites avec le temps long. Mais idéal pour événements (cérémonies, interactions particulières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Certains sujets sont délicats (du point de vue éthique ou de l’accès à l’observation)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On observe le + souvent une situation limitée, une unité de lieux et d’actes significative par rapport à l’objet de recherche, facile d’accès à un regard extérieur et permettant une présence prolongé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6e3aa"/>
                </a:solidFill>
                <a:latin typeface="Garamond"/>
              </a:rPr>
              <a:t>Où et quoi observer?</a:t>
            </a:r>
            <a:endParaRPr b="1" lang="en-US" sz="44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Pertinence théorique du terrain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Pertinence sociale du terrain. Question de bon s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Pertinence pratique du terrain. Récurr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a6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e6e3aa"/>
                </a:solidFill>
                <a:latin typeface="Garamond"/>
              </a:rPr>
              <a:t>Mode d’observation : à découvert ou « incognito »?</a:t>
            </a:r>
            <a:endParaRPr b="1" lang="en-US" sz="4000" spc="-1" strike="noStrike">
              <a:solidFill>
                <a:srgbClr val="e6e3aa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847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Garamond"/>
              </a:rPr>
              <a:t>Quel rôle social vais-je jouer sur mon terrain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L’observateur (terrain) </a:t>
            </a:r>
            <a:r>
              <a:rPr b="1" lang="fr-B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 Sociologu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Garamond"/>
              </a:rPr>
              <a:t>L’observateur participa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58:10Z</dcterms:created>
  <dc:creator>PIROTTE</dc:creator>
  <dc:description/>
  <dc:language>en-US</dc:language>
  <cp:lastModifiedBy>Pirotte Gauthier</cp:lastModifiedBy>
  <dcterms:modified xsi:type="dcterms:W3CDTF">2007-03-08T14:13:08Z</dcterms:modified>
  <cp:revision>5</cp:revision>
  <dc:subject/>
  <dc:title>Chapitre III</dc:title>
</cp:coreProperties>
</file>